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AF62-91EE-4957-8F6A-ED32795D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74A9-478D-4E3A-8A50-2B1E461D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ADCE3-8628-4817-9A1C-773EB565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D3DDD-6F89-4AA8-9A19-49CE38EC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D57B8-26A9-4145-AE6E-4FCD4597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2E21D-8356-4966-AC34-B45807A6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AAD7B-9B17-47CB-BFF6-EB612B81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9A8F2-7F28-4A66-82C0-B711D558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DE3D5-E92A-4FDC-89EC-A55DF14B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F970E-9155-4DF6-BF9E-314D1760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C2AAA-2622-45D1-A4DE-B8BAE85B8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8500F-A637-4F8E-8052-F88FFE76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489F-D9B9-496D-A6C1-BDACDB92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BCC51-E994-409C-BABA-FD2B4F52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F6203-ACCB-42E6-A511-AA2EC606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1096C-9AC5-4D28-916E-D0685CDD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45DA8-FC63-4C01-8CD8-08099B9D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22699-7D1C-4EEC-886E-A2158D47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B45AC-994A-40EF-9760-6627413D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68614-6D76-444A-ABB9-301AB24B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04444-7B32-4922-B8FA-6C291255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53092-2121-412A-B218-469B91D3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F9342-9755-4498-8D1E-B6BC7C73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4A62-2863-4704-898A-53C9124B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273A3-D2EF-4693-862E-CF5BBA0C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88065-F309-4A0E-BCAF-96F2B842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AEC88-6012-45A8-84B8-9532248D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08D28-868F-4CFF-8791-7BB1BA13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BE6B7-D882-4AA4-ABED-258885C3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6C865-C9ED-4E13-B36B-0CA3E80D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78839-862B-4A63-8F05-531F8BA9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01DD5-82F3-4745-8BB1-70851037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61358-B06F-43B1-8700-D49EEBEA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723EE-414F-45E1-971F-DB7F1672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BEDD-75DA-4377-A769-FA8E3DF1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8EA2A-6E3B-47D4-B76E-47BC4567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5C4E0-7C37-4B5A-A777-1615FE89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F6E8C-F1B0-4460-912B-26390141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9F6EA-9C08-423F-8AA1-1D510D89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3D7F4-0B9A-47C2-B35C-1CB38A6E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5FDF6-C24A-4195-BAFE-330D67BE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29EC2-03A6-45F1-B6AE-FF130F09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868FD-DC26-4CD6-9AFA-A344DDA0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6D7C0-1017-473E-8A40-14595FDD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68ECC-F4A2-4690-8CDF-C4789581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C256-BD5B-4FAA-9ED5-592C2CC9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C3083-F3BC-4995-9A60-D8FF2648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A7F2D-1E19-44C2-BCD2-2999BB08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E38A0-F88D-448F-A413-1DBCF7F8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FD0FD-6B9E-46BF-9762-3C4FF87C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C0312-1668-4D95-8CA1-F57D688A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A3653D-CE9C-45BD-B9C4-554C9B24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41178C-17F2-4AA2-9457-B6AAC0D2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A6A11B-8D8F-4CA8-8FCE-25F2CE42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CB81AE-FE22-4F22-B130-96EDA523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A637D9-655F-4F4E-A423-377DC795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12FC-0F6F-4E24-92F5-ADE73C08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913421-31EF-4F29-AC0D-D6909621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F8F241-E1D2-4151-869C-F874CFD4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8AF266-53DE-447B-88B8-EE208EEF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8DAA85-CAEA-4F82-A504-4D507FF8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8530C9-4B2E-4121-9F0C-091548C3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DD4713-8969-4C9D-BF47-FDC4242E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720D40-2BB3-40D5-A536-802F728A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768887-281A-48D5-ADF4-B684F869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74940C-5B63-4AB3-8302-C4900781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14876A-A90B-4FD6-B925-3A16C047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72F9-7E65-4974-8C1D-A62B1579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9A4935-2948-4DB9-8892-5FA369FA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D58C5A-6F47-4C3F-B829-0AC942D9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A9552F-0534-4AD2-9E33-9A48B25A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E104C2-7B32-4F0D-B440-4BF6FB22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4F28A6-F58B-4907-BF43-A9E9976E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37459D-EE39-44DE-B77D-E1996D94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58A22B-EACE-46D8-BB4D-B7CAB6D0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72593B-840E-4ACF-A8F4-2877D2AE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359BD1-D7CB-4776-BCE1-48775390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F64C84-24A2-4D19-8144-0AEAE7DF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19C4-467D-4229-8D0E-DD034529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F27F95-A105-4A6C-BC7F-FAC0ADF2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245F28-FC98-4643-928C-B1D03D4C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3FD5F5-505C-4EE1-B924-61C29652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3EA075-B8AA-4E21-A4E0-8129A659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BDC56D-5430-44F6-8D49-6C13B5F5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54C79E-C21B-4D6D-9937-2005345B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E50F92-9967-403E-A5A9-86301392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70A0D6-BA18-47B2-BD03-DD414AF4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13DCC2-F1A5-4B53-964B-3F9D6622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E1AF95-3EDD-4A0D-B3DB-40587C72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59D3-F596-4DF9-8B69-A7852595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2A1EDB-3826-4276-AE6F-97173B99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AFEEC7-EC47-4E8B-A836-398A8F02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C076B3-3977-4B2D-92EA-7A89B148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2AB5D2-EE3C-466C-B97D-1CE7DCDE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EE4797-F968-47F9-9ACC-76645A38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25CBD2-7741-4384-833D-25481367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DCA3FB-D217-416F-8D1D-EFA131C4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1C02AF-0160-4CAA-916C-17321109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7C2CD7-B5A7-40E6-A692-5E99808D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AF1743-B406-496C-8825-4DB9A5C7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B83F-F404-4226-B703-7F512F76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C6E483-1A54-426F-8D88-AB1A27F1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146FCD-AC11-4B3D-8E95-DDA9FB08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6E7CB0-FDBF-43FB-802F-BE182F81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75A821-042F-4ED2-AF66-953ADAB9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5393C6-1E6E-4C0E-8773-748CEE96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3C1B40-F196-4C83-91F5-0C9CD6C3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C09782-A88F-410B-8EAF-9E671855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0F3C3C-E8F6-4B55-ABFA-A1B910E6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A386B8-6F79-4633-B399-85CA3AEE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3CDA5C-FD9B-4DEF-B0FB-A2EF4465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52D0-F09E-4235-9AB9-B72DA889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5057-0288-4FE2-8607-F8A18526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57D79F-1946-4928-B83C-1F0DD447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1C1B01-9EC1-4FBC-8592-9A3C60EE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626CB3-0267-4F89-AE2A-C36741A8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47AEF7-3B86-408E-8ACB-6A58D9BC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EE4158-4D3C-4AA0-A3BC-05842F22D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73A917-00C7-44AF-88CC-74F3AA75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B28343-FFA8-44AF-9256-36234848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4B239F-BEBD-4F44-BDDC-31BEFDAB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095476-F98D-42D7-A990-16A4656F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711E95-7B1F-4E3F-9422-016F1C61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D5DE-CE5C-4D49-BFE5-6D04C38C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9D8B7B-1606-4A93-B019-8A91580C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25B3FD-070E-4998-97B2-6E2CDBA2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23869C-6FBA-4A5E-A15A-453FAA39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BA2C66-670F-4C6C-BF16-6C8F209B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FB7906-234D-4298-9B12-2979F655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BCC58B-52AD-4E06-B9B1-D0D2836C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61E878-2687-4B5F-B7A2-2713C84C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994A-CABF-422D-9CF7-0E70D190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767B-F074-4453-B184-FA93F28B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6332-639D-4A77-977F-343F3935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A44AF-9811-4C85-A767-E9D4640F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BA703-7CF2-442D-8576-A787A69C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E1565-1E40-4DF5-B7CD-87AF44B6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09E61-6E0F-4383-9E89-A66FE346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C7F52-1A79-4F3D-964E-0D3B2FE9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53B5-0297-4A9D-B3FC-1B30806D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917B0-5BA9-476C-B879-D1284045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1002E-C309-4159-A3F2-627BD010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EA43B-0D0E-476E-AFC7-1614F6F9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75A13-7F80-4A1D-9466-AB16324F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F2EA1-957A-4D7E-B555-64D398DA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AF599-78CB-4E98-B605-78C354E5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33C67-1CCE-4BCB-A9A5-999686B7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57ABF-E27B-42DF-A48A-8D5EA76F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DCB83-9EB5-4CB6-8912-315877A5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5DEDE-237E-41B9-836D-55E1CEDC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E1D6-937F-4D24-8E3E-8B6E41DD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81773-0A83-4BF5-B6F0-A8474CAA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8AA31-CA62-403A-BD51-E14A26B1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27069-448E-4344-A827-3D615DC5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9230D-2466-4568-95C7-A2205658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F95F7-1CFB-4813-B0BF-FD30A5FB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1733B-F4E1-4FB0-82C2-A731B6F6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1B553-C382-4D8E-A207-78C2319F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F6B5B-897F-4BC4-957A-CD265DF8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7B913-3E3D-470F-B4C4-01A600F4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26936-B7B6-40FE-A6A2-3B365DE3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14AA-AD42-4D37-AA58-444883DF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27053-D243-4D29-8BD2-49E4ABC3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4F08C-2EA0-4B80-A6C7-2373F793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93235-C919-433B-89FC-74D307D3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67CAF-ACAE-4614-9C94-084923D9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6BBC8-8EF0-4AF9-B7BB-960C8EBC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B8D54-EB1A-442B-9D08-BFF25316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E3CC5-2732-427D-885A-B01FA296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381C7-D18A-4374-AFDC-F93E6433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BD10C-A832-46F6-AAC5-3FCE07BD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9C9E6-B8F4-4740-9D7C-7246D7C6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2984-9400-4C2F-A193-89832196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B83A4-4CF9-46AD-AE84-B1D529F5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3277E-433A-49AF-98E3-1BF02DC9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2D501-C77D-4044-BF63-42F35E59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F7C97-5F1A-4A56-A05C-ABA6F552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51D85-CC86-48B8-8B9A-3A5A52E9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AAB9F-BE08-4DEB-8391-57772F92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94924-6EB9-4AD1-9764-56570D6D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80399-21B3-42A1-9CCA-B0B1C4D2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63BA8-D01A-4F5E-B420-BB6AB4EB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AF9E6-9256-4929-A8DF-9C936045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FEAA-6DAE-4EA1-9F1A-72A7C9F3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7CC3F-7A09-4F0F-9700-7DAB2263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D5E34-97D1-4469-80EE-F6BF7011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EA9AF-660D-45AB-8417-F55F2936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6295A-2D57-4E24-BF07-A9970F28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A6D4E-18E2-4F00-B6A0-0086D0C2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F7D0E-7398-44A1-96B3-22EAD53D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4DC41-AB9A-4DA2-A10E-7AB2D2C0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E4BE1-A1FD-444D-96B8-127E8C8F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E8AC9-787E-4BDD-8550-DA84E44E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7B2E9-F946-4512-A340-6A7C4C13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9A9B-DE5F-4493-BF04-B23D0399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27E23-E2D6-49BA-AFEC-A8A08093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7FC3B-0A4E-4C01-B5C5-CD01CCDF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530C4-F5C9-4906-982F-5B866830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F44AB-6860-42D8-9DF3-CB172521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F5C59-E002-4E0D-BBA4-C6740895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BB020-44DD-47E9-BB2C-008FB154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AF6FC-E1F8-4710-A7FA-D5C27038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5B605-A5B1-4D68-8444-9479ADB5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434FD-6172-4924-8BB4-73A24C2B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5C3DE-4739-4B97-B827-5230E993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D7CC-5B9D-42C0-A85C-10925999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EFAB0-19F7-4350-BB7C-5A5FE5F0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3C1E2-0639-4EE9-8989-0B0E4DE5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9E331-C97D-408D-A50D-5D2FB8E9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2AF44-AD17-46A5-9B59-907116CE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8FA5F-A170-4F91-8064-14162AD4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CD58C-D446-42EC-BCB2-16C153D9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C331E-D582-457B-A8ED-29EB5012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05542-1F14-4B82-B989-EAD461A2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DE9A4-748E-4C2E-84DE-28494861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33DFC-4D5A-46F6-B94A-5038EA8B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193.xml"/><Relationship Id="rId35" Type="http://schemas.openxmlformats.org/officeDocument/2006/relationships/slideLayout" Target="../slideLayouts/slideLayout194.xml"/><Relationship Id="rId36" Type="http://schemas.openxmlformats.org/officeDocument/2006/relationships/slideLayout" Target="../slideLayouts/slideLayout195.xml"/><Relationship Id="rId37" Type="http://schemas.openxmlformats.org/officeDocument/2006/relationships/slideLayout" Target="../slideLayouts/slideLayout196.xml"/><Relationship Id="rId38" Type="http://schemas.openxmlformats.org/officeDocument/2006/relationships/slideLayout" Target="../slideLayouts/slideLayout197.xml"/><Relationship Id="rId39" Type="http://schemas.openxmlformats.org/officeDocument/2006/relationships/slideLayout" Target="../slideLayouts/slideLayout198.xml"/><Relationship Id="rId40" Type="http://schemas.openxmlformats.org/officeDocument/2006/relationships/slideLayout" Target="../slideLayouts/slideLayout199.xml"/><Relationship Id="rId41" Type="http://schemas.openxmlformats.org/officeDocument/2006/relationships/slideLayout" Target="../slideLayouts/slideLayout200.xml"/><Relationship Id="rId42" Type="http://schemas.openxmlformats.org/officeDocument/2006/relationships/slideLayout" Target="../slideLayouts/slideLayout201.xml"/><Relationship Id="rId43" Type="http://schemas.openxmlformats.org/officeDocument/2006/relationships/slideLayout" Target="../slideLayouts/slideLayout202.xml"/><Relationship Id="rId44" Type="http://schemas.openxmlformats.org/officeDocument/2006/relationships/slideLayout" Target="../slideLayouts/slideLayout203.xml"/><Relationship Id="rId4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205.xml"/><Relationship Id="rId32" Type="http://schemas.openxmlformats.org/officeDocument/2006/relationships/slideLayout" Target="../slideLayouts/slideLayout206.xml"/><Relationship Id="rId33" Type="http://schemas.openxmlformats.org/officeDocument/2006/relationships/slideLayout" Target="../slideLayouts/slideLayout207.xml"/><Relationship Id="rId34" Type="http://schemas.openxmlformats.org/officeDocument/2006/relationships/slideLayout" Target="../slideLayouts/slideLayout208.xml"/><Relationship Id="rId35" Type="http://schemas.openxmlformats.org/officeDocument/2006/relationships/slideLayout" Target="../slideLayouts/slideLayout209.xml"/><Relationship Id="rId36" Type="http://schemas.openxmlformats.org/officeDocument/2006/relationships/slideLayout" Target="../slideLayouts/slideLayout210.xml"/><Relationship Id="rId37" Type="http://schemas.openxmlformats.org/officeDocument/2006/relationships/slideLayout" Target="../slideLayouts/slideLayout211.xml"/><Relationship Id="rId38" Type="http://schemas.openxmlformats.org/officeDocument/2006/relationships/slideLayout" Target="../slideLayouts/slideLayout212.xml"/><Relationship Id="rId39" Type="http://schemas.openxmlformats.org/officeDocument/2006/relationships/slideLayout" Target="../slideLayouts/slideLayout213.xml"/><Relationship Id="rId40" Type="http://schemas.openxmlformats.org/officeDocument/2006/relationships/slideLayout" Target="../slideLayouts/slideLayout214.xml"/><Relationship Id="rId41" Type="http://schemas.openxmlformats.org/officeDocument/2006/relationships/slideLayout" Target="../slideLayouts/slideLayout215.xml"/><Relationship Id="rId42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03AF-EACF-4C40-AEE5-B2F65CDC57DF}" type="slidenum"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24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F1B4-83E0-4B69-94B8-148167E7AA7E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67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68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71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74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77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81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3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30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1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42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  <p:grpSp>
              <p:nvGrpSpPr>
                <p:cNvPr id="546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9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E2B1-ED5D-4BCC-9EBB-509DDDA1F22D}" type="slidenum">
              <a:rPr b="0" lang="fr-CA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4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4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48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1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92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95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7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98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0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01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3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04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6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07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9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10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2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13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5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18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21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3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24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9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30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2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33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5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36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8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39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42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4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45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7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48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50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51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52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9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0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61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4088-8C90-4486-8844-3D54176957A5}" type="slidenum">
              <a:rPr b="0" lang="fr-CA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816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3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3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5FF7-066E-449F-B282-FEB8649785E2}" type="slidenum"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61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dt" idx="4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ftr" idx="4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sldNum" idx="4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C2A2-F499-48D9-91BF-F52965C317E3}" type="slidenum"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05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7FFE-8DC2-4AD7-B572-85C946209057}" type="slidenum">
              <a:rPr b="0" lang="fr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8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015" name="PlaceHolder 1"/>
          <p:cNvSpPr>
            <a:spLocks noGrp="1"/>
          </p:cNvSpPr>
          <p:nvPr>
            <p:ph type="dt" idx="4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ftr" idx="4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sldNum" idx="4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8A33-65E9-4C62-A008-0F0F9ED55F65}" type="slidenum">
              <a:rPr b="0" lang="fr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05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105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6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6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6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7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7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8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9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4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5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5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64E9-3FB8-4C79-886D-263C1287690A}" type="slidenum">
              <a:rPr b="0" lang="fr-CA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4"/>
    <p:sldLayoutId id="2147483858" r:id="rId35"/>
    <p:sldLayoutId id="2147483859" r:id="rId36"/>
    <p:sldLayoutId id="2147483860" r:id="rId37"/>
    <p:sldLayoutId id="2147483861" r:id="rId38"/>
    <p:sldLayoutId id="2147483862" r:id="rId39"/>
    <p:sldLayoutId id="2147483863" r:id="rId40"/>
    <p:sldLayoutId id="2147483864" r:id="rId41"/>
    <p:sldLayoutId id="2147483865" r:id="rId42"/>
    <p:sldLayoutId id="2147483866" r:id="rId43"/>
    <p:sldLayoutId id="2147483867" r:id="rId44"/>
    <p:sldLayoutId id="2147483868" r:id="rId4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15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115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15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15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15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15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6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7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7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9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dt" idx="5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 type="ftr" idx="5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 type="sldNum" idx="5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D1A8-8BDC-4614-A652-F30C59D94F39}" type="slidenum">
              <a:rPr b="0" lang="fr-CA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1"/>
    <p:sldLayoutId id="2147483871" r:id="rId32"/>
    <p:sldLayoutId id="2147483872" r:id="rId33"/>
    <p:sldLayoutId id="2147483873" r:id="rId34"/>
    <p:sldLayoutId id="2147483874" r:id="rId35"/>
    <p:sldLayoutId id="2147483875" r:id="rId36"/>
    <p:sldLayoutId id="2147483876" r:id="rId37"/>
    <p:sldLayoutId id="2147483877" r:id="rId38"/>
    <p:sldLayoutId id="2147483878" r:id="rId39"/>
    <p:sldLayoutId id="2147483879" r:id="rId40"/>
    <p:sldLayoutId id="2147483880" r:id="rId41"/>
    <p:sldLayoutId id="2147483881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63BF-EB61-46FF-B40E-0A2E5BABDE76}" type="slidenum"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94FD-6DD7-40AA-9C41-6342EC395893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0548-8333-4924-95F3-DCAB55015CCD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66D6-BB67-4F95-A41D-EB721874BF4C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1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B22D-2046-4EBF-9ECE-1EC3BEA89E50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3443-5A4D-44C2-9951-BCB80A4ED99D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2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B36B-82E9-4EE4-86D4-418EE54A0546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80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F863-5410-46EF-B9F2-38332B54F1A5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99eff1"/>
                </a:solidFill>
                <a:latin typeface="Comic Sans MS"/>
              </a:rPr>
              <a:t>LE QUIZ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Arial"/>
              </a:rPr>
              <a:t>Comment faire un quiz avec Powerpoint?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b7e7ff"/>
                </a:solidFill>
                <a:latin typeface="Arial"/>
              </a:rPr>
              <a:t>À quoi peut servir le logiciel Powerpoint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971640" y="2565360"/>
            <a:ext cx="7345440" cy="24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À faire des présentations orales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À jouer à des jeux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À présenter des photographies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Toutes ces réponses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A et C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b7"/>
                </a:solidFill>
                <a:latin typeface="Comic Sans MS"/>
              </a:rPr>
              <a:t>RÉPONSE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La bonne réponse est 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Les logiciels de présentation permettent de présenter des documents sous forme de textes, d'images, de vidéos et d'animation à l'aide d'un projecteur.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eec94"/>
                </a:solidFill>
                <a:latin typeface="Comic Sans MS"/>
              </a:rPr>
              <a:t>Comment fait-on pour écrire du texte dans un Powerpoint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On doit ouvrir un logiciel spéc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On doit écrire dans la zone de tex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On peut écrire n’importe o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Toute ces répo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cc"/>
                </a:solidFill>
                <a:latin typeface="Comic Sans MS"/>
              </a:rPr>
              <a:t>Réponse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La réponse est 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Quand tu écris un texte dans Powerpoint, cela doit être faire dans une ¨zone de texte¨. On peut ajouter ou supprimer des zon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omic Sans MS"/>
              </a:rPr>
              <a:t>Quel type d’images peut-on insérer dans Powerpoint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Comic Sans MS"/>
              </a:rPr>
              <a:t>a) Tu peux aller les chercher dans le les images clipar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Comic Sans MS"/>
              </a:rPr>
              <a:t>b) Tu peux aller les chercher dans un des tes fichiers sur ton ordinateu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Comic Sans MS"/>
              </a:rPr>
              <a:t>c) Tu peux en sauvegarder d’Internet et aller les récupér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Comic Sans MS"/>
              </a:rPr>
              <a:t>D) Toutes ces répons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omic Sans MS"/>
              </a:rPr>
              <a:t>Réponse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100" spc="-1" strike="noStrike">
                <a:solidFill>
                  <a:srgbClr val="ffffff"/>
                </a:solidFill>
                <a:latin typeface="Arial"/>
              </a:rPr>
              <a:t>La réponse est 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100" spc="-1" strike="noStrike">
                <a:solidFill>
                  <a:srgbClr val="ffffff"/>
                </a:solidFill>
                <a:latin typeface="Arial"/>
              </a:rPr>
              <a:t>Toute ces réponse sont bonnes. Pour insérer une image, tu cliques sur ¨insertion¨, suite sur image et tu choisis la localisation de ton image. Elle apparaîtra dans ta diapositive et tu pourras la déplacer en cliquant dessus et en bougeant ta souri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dbbd71"/>
                </a:solidFill>
                <a:latin typeface="Arial"/>
              </a:rPr>
              <a:t>Comment sauvegarde-t-on notre travail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Il n’est pas obligatoire de sauvegarder notre trava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Nous devons le sauvegarder régulièr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Il est préférable de sauvegarder, seulement, à la fin de notre trava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7d47d"/>
                </a:solidFill>
                <a:latin typeface="Comic Sans MS"/>
              </a:rPr>
              <a:t>Réponse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f1311"/>
                </a:solidFill>
                <a:latin typeface="Comic Sans MS"/>
              </a:rPr>
              <a:t>La réponse est B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f1311"/>
                </a:solidFill>
                <a:latin typeface="Comic Sans MS"/>
              </a:rPr>
              <a:t>Nous devons sauvegarder notre travail régulièrement. On ne sait jamais quand une panne peut arriver. Vaut mieux être pruden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f1311"/>
                </a:solidFill>
                <a:latin typeface="Comic Sans MS"/>
              </a:rPr>
              <a:t>*Pour sauvegarder nous devons cliquer sur ¨fichier¨, ensuite ¨sauvegarder sous¨, choisir le bon emplacement de sauvegarde et nommez notre fichier. Ensuite, on clique sur ¨OK¨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6:37:34Z</dcterms:created>
  <dc:creator>STI</dc:creator>
  <dc:description/>
  <cp:keywords/>
  <dc:language>en-US</dc:language>
  <cp:lastModifiedBy>STI</cp:lastModifiedBy>
  <dcterms:modified xsi:type="dcterms:W3CDTF">2007-11-19T18:14:21Z</dcterms:modified>
  <cp:revision>7</cp:revision>
  <dc:subject/>
  <dc:title>L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36</vt:lpwstr>
  </property>
</Properties>
</file>